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66B9-3443-4F85-96C2-506D4DA5460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6435-2C87-46C4-BFAE-EC31B681EA5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254B-D40A-49DE-8C57-8FB6FA9B228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7D0B-CA67-4703-901E-2833627BFE6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2468-E394-45BE-B192-BE84168F7E5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3851-A526-40C8-8C4D-502FF669A9F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6636-74F8-43D0-9757-12419F76F2C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C4E1-6219-42A9-B39A-E2FA6760DEA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C676-33DA-4A83-9204-1658AAED697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3C74-8F43-44C0-833D-E36748B5D69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06A8-2C61-4539-BC64-C5A652A6FC0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2CEE-6500-47F7-81D2-A9165FEC33C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F95A-019D-4B5E-8DB1-F4073855D28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3415-0754-4D97-8B08-0EED0D826A3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FAFB-8A50-4506-9539-BF824457856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B91-585F-4C36-8E73-75DA2AC3AE9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5F2E-FA3D-46B0-A330-F223FD4153A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2E44-7781-4A7E-BE7A-E1A66699669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A16-B913-4327-AE88-55095222111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7177-2EB4-42E2-9695-B9688B40C3C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AC2B-39CC-4C42-B42D-2B19AB0BDB2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9BB8-2317-4431-9B2F-FE82B5BEFF7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7240-6EAD-4D6C-85FC-3971DD9CADE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FBB3-798B-4EFD-A712-88B9B4CED04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45DD-9731-4B88-845F-9FDF5372130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EB87-F9FF-4BE3-8A98-E857941E80E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7806-0F4C-4622-8D07-064BB49C00A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4C27-50BD-4574-85AD-0E8CFADCE1C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3456-375A-4F5B-AF29-C057763EBAC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075-718A-4339-84D9-057644A2A98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8412-6130-449A-AF30-CA1914D82A2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EA8B-70F0-4D95-8EE8-645D03E26E7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3523-8E11-43E3-AE57-54438915A83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E13D-F576-4915-9E5C-D8B7C9F9AD0A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03A1-C69D-4C2F-B823-2C17D6608075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AE59-7370-47C3-8129-41C015EF2BF8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F01B-5364-4E9C-A37A-1093B977EABE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480C-5A21-49F6-9AA2-D4500EF68BAB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D752-F264-48D1-A014-EC770F9D069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2DE4-30A8-408C-9900-56C925BF9FEE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7F81-050D-428A-9737-98D1388DF17D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F1EF-7103-4D01-B038-1416E0CF1D9C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3746-4996-4B30-904D-BAC147A332A5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31C8-DBCE-41A4-87FC-708FEA5D690C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8814-FDF2-4BEF-9A40-D949CC9C321B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60A5-97AB-47D1-89E8-68172235A20E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D737-9E6E-4A38-9758-0CB8383D5AD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F177-F636-4922-B960-E70D218CE47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E4D3-4DF7-41CD-8A4B-0E656A03483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077-9BFA-43D3-A4BB-98DFCF9D01B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457A-A56A-4D78-99BD-3719E7A8609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9F1-E123-43B9-A38F-A0FB9413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F18-FB65-4937-9011-D481D5CF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BC7-591B-4174-9FF7-FA8B9204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7F3-D9F7-4DDF-82F4-38C7965A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E98D-3B7F-408A-BC7A-CF7B9E07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5EE3-B58F-45C8-A45E-4CC8DD56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2B72-A1F1-4627-9C64-6E41D27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8619-4B52-4D28-8D3E-8B061D62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210D-A03C-4C43-8B60-21521E4D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F244-F090-417D-B1F7-8167B9B5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B0E8-D97C-411D-B652-A3064F4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115-6306-453C-9CCB-DDE8A5D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BC23-863C-4029-8D84-DC7E18D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D444-5915-461F-9BBE-D1C763A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5551-5E04-4891-ACD5-C94B1AC1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A94E-0BB6-494D-B375-98DE8155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401D-C0D9-4B47-B74F-9FFBEB83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591C5-78B2-4B4C-BCC7-790C2CA0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3A062-522F-4B72-B1C6-DDC87A47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4AD20-CA91-4643-9978-8741FDD9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35F57-256B-4B3C-B48E-70F4216F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B9984-1CDC-45EB-A875-378D12A5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C1B-258D-4C8B-A25B-087CF218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9C763-5619-44F9-AD92-6B99345A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57B15-D058-4CC3-B9D8-C38A047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0B916-DDAD-4C55-8115-D2EC8257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94784-EA18-48B6-ACF2-D563088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0F6D3-782A-4E5F-AF08-95BDF3BC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7D7C8-D9DA-4A31-80F4-C59912B0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D13B1-1869-47A0-BA60-B51BBD65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2790F-C658-466C-BFF7-E5DA4E11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FCED-E73C-46B5-A86A-15DF4BEB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B0A2-E520-4218-A638-225C9278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51E-5DB8-466E-9C94-87B436A6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D7BC-3C73-4FED-80A8-C31E0069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53CDD-2195-4877-80E3-F71D8922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A5BD3-8BB6-44F7-8F26-4FB8680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5BAF-4CBA-4C10-9325-3021A805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2A9B-EDBC-493E-ABCC-6C98AD5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7BC4-E4B9-4C82-BFE8-AC7BA1F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C9455-54E9-4C77-BA89-37829F3C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F9C8-A021-4DCE-965A-7AB83F1B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7C2F-D315-4724-807E-4583CA41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AB178-7D4B-4261-966D-AB025F47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013-03D5-4ED6-A155-8B7C3BA7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AB4DF-40B7-42A5-9499-D767BB6B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4DF4E-BBF8-464D-B4E5-D53AF9F3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7FF6C-F93C-4C80-A72B-2168CECE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DE71A-C934-464C-B2A0-B02DE286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48D8C-9AAC-44D6-9A5F-7A39B3EB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CC26C-6F1E-488A-AA99-823C0E02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96A1A-08D2-4750-908F-2AB7647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D7F7A-BC33-4D47-BC77-0C3E1E1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9FD80-1AFD-4E17-9B1A-2F88D8ED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36522-4DF9-49DC-986B-AD73FFE9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88C-78D5-4C48-AE70-5393CD8A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1BBB7-3165-4FBA-8397-67D48451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5951F-12E6-4360-84D9-0C9E70E4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E40EE-8447-4D50-9E76-75818229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194D8-324E-4849-8831-66447831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EB519-FA0A-4570-83EE-FB2F21D5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563EF-2899-4B14-8F56-39F31F12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12639-3A5A-456E-BB65-FD8EB0F0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97880-D0C6-440E-932E-BDC69E86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BAE2A-DA55-4A3C-9682-8EC4A661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73FF0-F638-4BC4-B990-7C6000C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209-B35D-4DD9-8DEF-B4B55AE9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60069-1F87-4E82-AA72-70D2608C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8CC04-D861-4AD3-B7FF-4BCA09E6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C0A7E-409F-4AFC-B17E-38DAD046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B26B0-E0F3-423E-A71D-66A3C853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08244-F757-4791-918D-E1F9F098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5C020-7544-4C0C-A4AE-A635E478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76BA9-261B-4D55-94AA-1562839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B22FE-8290-4BCF-8F15-61B72CD0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B4C26-A33A-42D4-9615-87F58AEA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8974D-2791-4081-A674-5FB9B8B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00B-781E-4545-88BB-5767AD4C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98375-034F-4F7B-8A7B-32C8FCA7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5FF59-EEFA-4BAD-B9E4-2FF79BE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09736-A0BF-42FE-B9C2-21233831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1F7FB-B9C3-46D6-9106-20C21A28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48A665-92B2-40F5-8206-4F667814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ECF-6F92-4716-8283-97EE4547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BC7B-DB8E-4F69-A696-5B55B27ADE2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D838-404D-48A3-BBE7-CFD30569FF7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2396-BE33-429D-9A28-A163D54C840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F339-A845-4058-BA27-F9C75EF113D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2003-BFFA-4232-B891-0693056D0E6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DA8F-19FB-46A0-A7E1-A7DF862F0EA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C935-C09C-4558-99E7-AE716B4D077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84000" y="1341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1f497d"/>
                </a:solidFill>
                <a:latin typeface="Century Schoolbook"/>
              </a:rPr>
              <a:t>HIDRATACIÓN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00360" y="5003640"/>
            <a:ext cx="39574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ra. Thelma Suau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pto. Ped y cirugia Infantil S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logo U"/>
          <p:cNvPicPr/>
          <p:nvPr/>
        </p:nvPicPr>
        <p:blipFill>
          <a:blip r:embed="rId1"/>
          <a:stretch/>
        </p:blipFill>
        <p:spPr>
          <a:xfrm>
            <a:off x="5508720" y="3068640"/>
            <a:ext cx="806400" cy="1512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http://t1.gstatic.com/images?q=tbn:ANd9GcRSk28m57rCwmeP74VLZyQOOyysF7QyUQ6GxcwGln-tt6wn5gHDhg"/>
          <p:cNvPicPr/>
          <p:nvPr/>
        </p:nvPicPr>
        <p:blipFill>
          <a:blip r:embed="rId2"/>
          <a:stretch/>
        </p:blipFill>
        <p:spPr>
          <a:xfrm>
            <a:off x="900000" y="3333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a forma de calcular la necesidad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Superficie corporal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PESO X 4)+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ctr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PESO + 90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requiere del conocimiento del peso y talla para su cálculo 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utilización de tabla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e utiliza de preferencia en pacientes mayores de 20 Kg. Y se estiman como entre 1.800 a 2000 ml/m² s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entury Schoolbook"/>
              </a:rPr>
              <a:t>APORTE VOLUMEN HOLLIDAY V/S SC</a:t>
            </a:r>
            <a:br>
              <a:rPr sz="2700"/>
            </a:b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993080" cy="5113440"/>
          </a:xfrm>
          <a:prstGeom prst="rect">
            <a:avLst/>
          </a:prstGeom>
          <a:ln w="0">
            <a:noFill/>
          </a:ln>
        </p:spPr>
      </p:pic>
      <p:sp>
        <p:nvSpPr>
          <p:cNvPr id="385" name="3 Flecha arriba"/>
          <p:cNvSpPr/>
          <p:nvPr/>
        </p:nvSpPr>
        <p:spPr>
          <a:xfrm>
            <a:off x="2587680" y="3860640"/>
            <a:ext cx="243000" cy="97812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CALCULO VELOCIDAD INFUS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7" name="2 Marcador de contenido" descr=""/>
          <p:cNvPicPr/>
          <p:nvPr/>
        </p:nvPicPr>
        <p:blipFill>
          <a:blip r:embed="rId1"/>
          <a:stretch/>
        </p:blipFill>
        <p:spPr>
          <a:xfrm>
            <a:off x="365040" y="1603440"/>
            <a:ext cx="75596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OLLID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mayor 1 año  6 meses, peso 11,5 K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x 10 =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,5 x 50  =     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 10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5 GOTAS POR MINU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70320" y="1125000"/>
            <a:ext cx="3657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UPERFICIE CORP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11,5 X 4) +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1,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: 1800- 2000 X 0,5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940 – 104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3 – 14 GOTAS/M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entury Schoolbook"/>
              </a:rPr>
              <a:t>REQUERIMIENTOS DE ELECTROLITOS: 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Na+ 3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K+ 2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Cl- 5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1" descr="C:\Documents and Settings\thelma\Mis documentos\Documentos Thelma\CLASES\libro_transtornos_clinicos_de_agua_electrolitos_grd.jpg"/>
          <p:cNvPicPr/>
          <p:nvPr/>
        </p:nvPicPr>
        <p:blipFill>
          <a:blip r:embed="rId1"/>
          <a:stretch/>
        </p:blipFill>
        <p:spPr>
          <a:xfrm>
            <a:off x="5796000" y="1844640"/>
            <a:ext cx="2395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DEFICIT - DES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68360" y="1844640"/>
          <a:ext cx="7848720" cy="4227480"/>
        </p:xfrm>
        <a:graphic>
          <a:graphicData uri="http://schemas.openxmlformats.org/drawingml/2006/table">
            <a:tbl>
              <a:tblPr/>
              <a:tblGrid>
                <a:gridCol w="2052720"/>
                <a:gridCol w="1541160"/>
                <a:gridCol w="2086200"/>
                <a:gridCol w="2168640"/>
              </a:tblGrid>
              <a:tr h="40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: le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: moder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I: se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gor y elasti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d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y 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o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r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 dé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ur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a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an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ón o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os hund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u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Rectangle 1"/>
          <p:cNvSpPr/>
          <p:nvPr/>
        </p:nvSpPr>
        <p:spPr>
          <a:xfrm>
            <a:off x="3251520" y="597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ignos y Síntomas según grado de deshidra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DEFICIT SEGÚN PERDIDA DE PE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95280" y="1844640"/>
          <a:ext cx="7529400" cy="3024360"/>
        </p:xfrm>
        <a:graphic>
          <a:graphicData uri="http://schemas.openxmlformats.org/drawingml/2006/table">
            <a:tbl>
              <a:tblPr/>
              <a:tblGrid>
                <a:gridCol w="3456000"/>
                <a:gridCol w="2089080"/>
                <a:gridCol w="19843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HIDRATA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C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DER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V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2" name="Picture 2" descr="C:\Documents and Settings\thelma\Mis documentos\Documentos Thelma\CLASES\deshidratacion21.jpg"/>
          <p:cNvPicPr/>
          <p:nvPr/>
        </p:nvPicPr>
        <p:blipFill>
          <a:blip r:embed="rId1"/>
          <a:stretch/>
        </p:blipFill>
        <p:spPr>
          <a:xfrm>
            <a:off x="539640" y="836640"/>
            <a:ext cx="3024360" cy="39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Documents and Settings\thelma\Mis documentos\Documentos Thelma\CLASES\DESHIDRATMOD.jpg"/>
          <p:cNvPicPr/>
          <p:nvPr/>
        </p:nvPicPr>
        <p:blipFill>
          <a:blip r:embed="rId2"/>
          <a:stretch/>
        </p:blipFill>
        <p:spPr>
          <a:xfrm>
            <a:off x="3564000" y="549360"/>
            <a:ext cx="4206960" cy="2797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Documents and Settings\thelma\Mis documentos\Documentos Thelma\CLASES\deshid grave.jpg"/>
          <p:cNvPicPr/>
          <p:nvPr/>
        </p:nvPicPr>
        <p:blipFill>
          <a:blip r:embed="rId3"/>
          <a:stretch/>
        </p:blipFill>
        <p:spPr>
          <a:xfrm>
            <a:off x="3635280" y="3357720"/>
            <a:ext cx="4249800" cy="322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entury Schoolbook"/>
              </a:rPr>
              <a:t>EL AGUA ES VIDA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63" name="6 Marcador de contenido" descr="desierto.jpg"/>
          <p:cNvPicPr/>
          <p:nvPr/>
        </p:nvPicPr>
        <p:blipFill>
          <a:blip r:embed="rId1"/>
          <a:stretch/>
        </p:blipFill>
        <p:spPr>
          <a:xfrm>
            <a:off x="468360" y="1628640"/>
            <a:ext cx="3510000" cy="2351160"/>
          </a:xfrm>
          <a:prstGeom prst="rect">
            <a:avLst/>
          </a:prstGeom>
          <a:ln w="0">
            <a:noFill/>
          </a:ln>
        </p:spPr>
      </p:pic>
      <p:pic>
        <p:nvPicPr>
          <p:cNvPr id="364" name="7 Marcador de contenido" descr="desierto florido.jpg"/>
          <p:cNvPicPr/>
          <p:nvPr/>
        </p:nvPicPr>
        <p:blipFill>
          <a:blip r:embed="rId2"/>
          <a:stretch/>
        </p:blipFill>
        <p:spPr>
          <a:xfrm>
            <a:off x="4270320" y="2685960"/>
            <a:ext cx="3657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PERDIDAS PATOLOG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773360"/>
          <a:ext cx="7488360" cy="4863960"/>
        </p:xfrm>
        <a:graphic>
          <a:graphicData uri="http://schemas.openxmlformats.org/drawingml/2006/table">
            <a:tbl>
              <a:tblPr/>
              <a:tblGrid>
                <a:gridCol w="2868840"/>
                <a:gridCol w="2333520"/>
                <a:gridCol w="2286000"/>
              </a:tblGrid>
              <a:tr h="27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M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na Radi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ubadora (RN 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t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do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mad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ilador humid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queost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TO GASTROINTEST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m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ión de S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/An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CELA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enaje quirúr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otiroid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cer espa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DE ADMINISTRACIÓ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: Reg 0, deshidratación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Grado de deshidrat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Osmola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s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ndemnidad de la función re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s de Gastroenteritis Aguda estudios demuestran que el aporte por vía oral a través de Gastroclisis, sonda nasogástrica son mejor tolerados y pueden reponer el déficit en pocas horas (4 HORAS), lo que evitaría la hospitalizació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n Sales de Rehidratación con Na⁺ 45 – 60 meq/L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1f497d"/>
                </a:solidFill>
                <a:latin typeface="Century Schoolbook"/>
              </a:rPr>
              <a:t>HIDRATACION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218556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Glucosa 111 mM/L (20 g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odio 90 mEq/L (lactantes sodio 45-60mEq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otasio 2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itrato 3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loruro 8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143000" y="1752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LUCION 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e puede ser calculado en deshidratación leve o moderada de la siguiente form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Hidratación límite o deshidratación lev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-10 ml/k después de cada deposi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5ml  a 10 ml o 1 -2 cucharada cada 5 minutos administrar en 2 a 4 hor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2 ml/K después de cada vómi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leve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50cc/K = 415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5cc (60cc/hr) a 10 cc (120cc/hr) cada 5 minutos por 4 horas =  240cc a 48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 – 15 cc/K (83 - 124 cc) por 4 horas = 330 - 498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eshidratación Moderad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50 – 100 ml/K/hr administrar en 2  a 4 ho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20 ml o 4 cucharada cada 5 minutos (240 cc/h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Si no tolera, administrar bolo Suero Fisiológico 20cc/K y continuar con aporte ví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moderado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100 cc/K = 83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15cc (180cc/hr) a 20 cc (240 cc/hr) cada 5 minutos por 4 horas =  720cc a 96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– 30 cc/K (166 -  249 cc) por 4 horas = 664 - 996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hospitalizados se ha preferido la utilización de la vía parenteral que permite un aporte directo al intravascula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 en el caso de  pacientes, en condi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Sh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shidratados sever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prometidos de concienc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le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 ayun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AGUA ES EL PRINCIPAL COMPONENTE DEL ORGANISM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395280" y="2278080"/>
          <a:ext cx="8345520" cy="33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8080"/>
                    <a:ext cx="834552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49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55640" y="1901880"/>
          <a:ext cx="6718320" cy="4041720"/>
        </p:xfrm>
        <a:graphic>
          <a:graphicData uri="http://schemas.openxmlformats.org/drawingml/2006/table">
            <a:tbl>
              <a:tblPr/>
              <a:tblGrid>
                <a:gridCol w="843120"/>
                <a:gridCol w="1365120"/>
                <a:gridCol w="944640"/>
                <a:gridCol w="1363680"/>
                <a:gridCol w="2201760"/>
              </a:tblGrid>
              <a:tr h="102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D.  PATOLO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.: Pacte. de 10 K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  Le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ó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(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3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500 + 300 =   18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 Mode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 (10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4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000 + 400 = 2.4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 Sev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l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(1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5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500 + 400 = 2.9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39"/>
          <p:cNvSpPr/>
          <p:nvPr/>
        </p:nvSpPr>
        <p:spPr>
          <a:xfrm>
            <a:off x="755640" y="1281600"/>
            <a:ext cx="60483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culo de aporte de volumen seg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ú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grado de deshidrataci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administra la mitad del volumen en las primeras 8 horas y el resto en las próximas 16 horas. O se calcula en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os en urgencia recuperan déficit en 4 hrs. Y realiment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la rehidratación debe evaluarse clínicamente de manera continua y reevaluar el aporte si es neces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en deshidrataciones hipertónicas la reposición del déficit debe ser más lenta y por tanto se calcula la mitad del déficit para las primeras 24 hora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compromiso hemodinámico o shock se debe administrar bolos de Sol. Fisiológica 20cc/K en 20 minutos, repetir hasta lograr mejoría en estado hemodinámic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no recuperar presiones puede administrarse soluciones coloidales y luego instalar CVC para administrar drogas vasoactiv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TIPO DE FLUIDO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sanos la administración de fluidos endovenosos debería ser dado en solución salina (Suero fisiológico 0,9%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ₒ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) 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reparados con glucosa 5% + electrolitos (Na⁺ 70meq/lt + K⁺ si la función renal está conservada) esto último para asegurar aporte de glucosa a nivel cerebral, disminuir el catabolismo proteico y evitar la cetoacidosi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ar soluciones bajas en electrolitos y mantenidas en el tiempo, contribuye a aumentar el riesgo de hiponatrem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EPARADOS DE NAC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1 g de NaCl aporta 17 mEq de Na y 17 mEq de C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Usamos NaCl 10%, o sea que en l0 cc de NaCl 10% tenemos 1 g de este compuesto, vale decir 17 mEq de Na (1,7 mEq/ml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10 cc de NaCl 10% en 500 cc de solución glucosada 5%, estamos poniendo 17 mEq de sodio en medio litro de solución, o sea, 34 mEq en 1 litr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20 cc NaCl 10% en 1000cc de SG 5%, aportaremos 68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SOLUCIONES SEGÚN TIPO OSMO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Tonicidad de la solución según tipo osmola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Desh. hipertónica (natremia &gt;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30 - 4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isotónica (natremia 130 -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50 - 6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(natremia 120 - 13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70 - 8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severa (natremia &lt; 120):Tonic. 80 - 10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IMERA PART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44" name="6 Marcador de posición de imagen" descr="http://2.bp.blogspot.com/-MoWk1mUF5Jk/UZpPQHZneQI/AAAAAAAAA6U/QSsZv0802D8/s1600/breakandcontinue.jpg"/>
          <p:cNvPicPr/>
          <p:nvPr/>
        </p:nvPicPr>
        <p:blipFill>
          <a:blip r:embed="rId1"/>
          <a:stretch/>
        </p:blipFill>
        <p:spPr>
          <a:xfrm>
            <a:off x="1476360" y="1484280"/>
            <a:ext cx="5165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TOMAMOS FELICES!!!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3 Imagen" descr="http://pensamientospositivos9.files.wordpress.com/2011/08/r-positivo-_1.jpeg?w=300&amp;h=200"/>
          <p:cNvPicPr/>
          <p:nvPr/>
        </p:nvPicPr>
        <p:blipFill>
          <a:blip r:embed="rId1"/>
          <a:stretch/>
        </p:blipFill>
        <p:spPr>
          <a:xfrm>
            <a:off x="1908000" y="1844640"/>
            <a:ext cx="547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KALEMIA sobre 5,5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´CAUS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emóli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idosis metaból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uficiencia Renal 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oaldosteronismo (HSRC perdedora de s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ármacos: (-) ECA, AI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Rectángulo"/>
          <p:cNvSpPr/>
          <p:nvPr/>
        </p:nvSpPr>
        <p:spPr>
          <a:xfrm>
            <a:off x="539640" y="907920"/>
            <a:ext cx="77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la cantidad de un sustrato o nutriente que asegura la integridad y  buen funcionamiento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 BASAL: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el requerimiento de un individuo en condiciones metabólicas ba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COMEND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es una cantidad mayor que el requerimiento y que pretende asegurar un adecuado aporte a los individuos de una población, considerando la variabilidad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TAMIENTO: Monitorización UPC o U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sinas de Intercambio Ionico: Kayexe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gr/K rectal u oral diluido el glu HT (30 o 50%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luconato de Calcio ev lento 1cc/k en 30 minutos, seguido de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&lt;bicarbonato de Na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1 meq/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lucosa + Insul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lt; 135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atrogen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sminución del volumen circulante: pérdidas gastrointestinales (diarrea, vómitos), Dérmicas FQ), Renales (Nefropatía perdedora de sal, diuréticos, hipoaldosteronismo, Estado edematoso (I. Crdíaca, cirrosis, Sd. Nefrót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uréticos tiazíd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. Renal: Ag y C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xceso ADH (Secreción inapropiad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hay compromiso neurológico (cefalea, náuseas, CEG, letargia, convulsion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olución Salina HT 3% (NaCl 10% diluído 1/3 + 2/3 SG 5%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Objetivo llevar Natremia a 125 meq/l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éficit= (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eseado - Na⁺ actual)x 0,3x pes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BIC     1-2meq/lt/h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dealmente el  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no debe ser mayor a 10-15meq/d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no hay compromiso neurológico no requiere corrección con solución salina 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2050920" y="3716280"/>
            <a:ext cx="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2771640" y="4220640"/>
            <a:ext cx="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ER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 145-15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de agua lib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poner el 50% del déficit en las primeras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iendo del valor de 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rregir con soluciones 40-30-2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velocidad de corrección no &gt; 1 meq/Hr o 15 meq/24 h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CAPITULEM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838080" y="68580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CID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stado fisiopatológic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n que hay más ácido 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enos base de l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914400" y="3581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LCAL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Hay más base o menos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 de lo 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Century Schoolbook"/>
              </a:rPr>
              <a:t>ALTERACIONES ÁCIDO - BÁSICAS: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Des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Parcialmente 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27"/>
          <p:cNvSpPr/>
          <p:nvPr/>
        </p:nvSpPr>
        <p:spPr>
          <a:xfrm>
            <a:off x="942480" y="1600200"/>
            <a:ext cx="69843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            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+   H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+ 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28"/>
          <p:cNvGrpSpPr/>
          <p:nvPr/>
        </p:nvGrpSpPr>
        <p:grpSpPr>
          <a:xfrm>
            <a:off x="2516040" y="1981080"/>
            <a:ext cx="1904760" cy="152280"/>
            <a:chOff x="2516040" y="1981080"/>
            <a:chExt cx="1904760" cy="152280"/>
          </a:xfrm>
        </p:grpSpPr>
        <p:sp>
          <p:nvSpPr>
            <p:cNvPr id="468" name="Line 1029"/>
            <p:cNvSpPr/>
            <p:nvPr/>
          </p:nvSpPr>
          <p:spPr>
            <a:xfrm>
              <a:off x="2516040" y="1981080"/>
              <a:ext cx="19047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30"/>
            <p:cNvSpPr/>
            <p:nvPr/>
          </p:nvSpPr>
          <p:spPr>
            <a:xfrm flipH="1">
              <a:off x="2591640" y="2133360"/>
              <a:ext cx="175284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Line 1033"/>
          <p:cNvSpPr/>
          <p:nvPr/>
        </p:nvSpPr>
        <p:spPr>
          <a:xfrm flipH="1" flipV="1">
            <a:off x="1448280" y="2502000"/>
            <a:ext cx="2160" cy="110808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034"/>
          <p:cNvSpPr/>
          <p:nvPr/>
        </p:nvSpPr>
        <p:spPr>
          <a:xfrm flipH="1" flipV="1">
            <a:off x="1600560" y="2549520"/>
            <a:ext cx="2160" cy="11080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2"/>
          <p:cNvSpPr txBox="1"/>
          <p:nvPr/>
        </p:nvSpPr>
        <p:spPr>
          <a:xfrm>
            <a:off x="609480" y="2895480"/>
            <a:ext cx="17812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osis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5943600" y="2971800"/>
            <a:ext cx="1876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calosis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WordArt 4"/>
          <p:cNvSpPr txBox="1"/>
          <p:nvPr/>
        </p:nvSpPr>
        <p:spPr>
          <a:xfrm>
            <a:off x="3276720" y="129528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tabólica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3124080" y="4591080"/>
            <a:ext cx="219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spiratoria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AutoShape 6"/>
          <p:cNvSpPr/>
          <p:nvPr/>
        </p:nvSpPr>
        <p:spPr>
          <a:xfrm rot="19884600">
            <a:off x="1905120" y="22856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 rot="2404800">
            <a:off x="1790280" y="392400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 rot="8585400">
            <a:off x="5029200" y="411408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 rot="13384200">
            <a:off x="5105520" y="220896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Sin título2"/>
          <p:cNvPicPr/>
          <p:nvPr/>
        </p:nvPicPr>
        <p:blipFill>
          <a:blip r:embed="rId1"/>
          <a:stretch/>
        </p:blipFill>
        <p:spPr>
          <a:xfrm>
            <a:off x="380880" y="700200"/>
            <a:ext cx="85345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CONTROL DE LA OSMOLARIDAD PLASMÁTICA Y DEL VOLUMEN INTRAVASCU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2349000"/>
            <a:ext cx="74674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DH:  AUMENTO DE OSMOLARIDAD, EN TUBULO COLECTOR PRODUCE APERTURA CANALES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D: ESTIMULADA POR OSMORECEPTOR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Y BARORECEP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MBOS MECANISMOS LLEVAN A UN AUMENTO DEL AGUA Y DISMINUCION OSMO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026" descr="Sin título3"/>
          <p:cNvPicPr/>
          <p:nvPr/>
        </p:nvPicPr>
        <p:blipFill>
          <a:blip r:embed="rId1"/>
          <a:stretch/>
        </p:blipFill>
        <p:spPr>
          <a:xfrm>
            <a:off x="304920" y="1028880"/>
            <a:ext cx="8426160" cy="54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Sin título1"/>
          <p:cNvPicPr/>
          <p:nvPr/>
        </p:nvPicPr>
        <p:blipFill>
          <a:blip r:embed="rId1"/>
          <a:stretch/>
        </p:blipFill>
        <p:spPr>
          <a:xfrm>
            <a:off x="1066680" y="173160"/>
            <a:ext cx="693432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GASES EN SANGR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H: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informa sobre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hidrogenion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CO</a:t>
            </a:r>
            <a:r>
              <a:rPr b="0" lang="es-MX" sz="1400" spc="-1" strike="noStrike">
                <a:solidFill>
                  <a:srgbClr val="ff3300"/>
                </a:solidFill>
                <a:latin typeface="Century Schoolbook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informa sobre el component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respirator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Déficit de base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informa sobre el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omponente metaból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Bicarbonato estándar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es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bicarbonato que existiría con una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PCO2 de 40 mm H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1 gramo de bicarbonato de sodio aporta 11,9 mEq de ion sodio y 11,9 mEq de ion    bicarbon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/6 M: 0,1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2/3 M: 0,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5%: 0,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Bicarbonato 8,4%: 1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0%: 1,2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CÁLCULO DE BICARBONA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.B. X peso del paciente X 0,6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(de esta cantidad se aporta sólo la mitad en las primeras 24 hor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3 a 5 mEq/K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CORRECCIÓN ACIDOSI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H &lt; 7,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icarbonato st &lt; 12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 valores mayores si hay pérdidas aumentadas y manteni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D los valores son: pH &lt;6,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Al corregir acidosis con bicarbonato se modifica concentración d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otas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K+ vuelve al compartimiento intracelular. Potasio corregido se obtiene restando 0,6 mEq por cada décima de pH que se corri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Calc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a++ vuelve a hueso. Corrección rápida lleva a riesgo de hipocalcem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195280" y="4437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entury Schoolbook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5" name="Picture 1" descr="C:\Documents and Settings\thelma\Mis documentos\Documentos Thelma\CLASES\NIÑOS.jpg"/>
          <p:cNvPicPr/>
          <p:nvPr/>
        </p:nvPicPr>
        <p:blipFill>
          <a:blip r:embed="rId1"/>
          <a:stretch/>
        </p:blipFill>
        <p:spPr>
          <a:xfrm>
            <a:off x="1908000" y="549360"/>
            <a:ext cx="63597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REGULACION DEL VOLUMEN INTRAVASCULAR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alance de Sodio (Na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 consumo y la excreción ocurre a nivel renal, este a su vez depende de la filtración glomerular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úbulo proximal se reabsorbe el 65% del Na⁺ filtrado, el resto se reabsorbe en el asa de Henle y finalmente a nivel del túbulo distal por acción de aldosterona que produce reabsorción de Na⁺ y excreción de Potasio (K⁺)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ualquier cambio en estos factores llevará a un aumento o disminución en la concentración de Na⁺ y/o K⁺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C:\Documents and Settings\thelma\Mis documentos\Documentos Thelma\CLASES\bebes_necesitan_beber_agua.jpg"/>
          <p:cNvPicPr/>
          <p:nvPr/>
        </p:nvPicPr>
        <p:blipFill>
          <a:blip r:embed="rId1"/>
          <a:stretch/>
        </p:blipFill>
        <p:spPr>
          <a:xfrm>
            <a:off x="5867280" y="2205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700280"/>
            <a:ext cx="7467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necesidades basales de agua están dadas po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s pérdidas insensibles (piel, pulmones)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érdidas obligadas por orina y deposiciones 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or la actividad dinámica específic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dicionalmente se ha utilizado la fórmula de Holliday que permite el rápido cálculo de volumen  y homologa el gasto calórico a las necesidades de agua y se calcula según lo siguient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ml o kcal/Kg los primero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0 ml o Kcal/Kg los siguientes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ml o kcal/Kg desde los 20 Kg en adel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0:21:01Z</dcterms:created>
  <dc:creator>Valued Packard Bell Customer</dc:creator>
  <dc:description/>
  <dc:language>en-US</dc:language>
  <cp:lastModifiedBy>Usuario</cp:lastModifiedBy>
  <dcterms:modified xsi:type="dcterms:W3CDTF">2015-04-17T02:04:10Z</dcterms:modified>
  <cp:revision>48</cp:revision>
  <dc:subject/>
  <dc:title>Diapositiva 1</dc:title>
</cp:coreProperties>
</file>